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30F-AF81-4D28-9300-BBCC04CB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00B-D0A7-49F9-9913-3A556CBE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81B-8782-4BE1-AE7E-793E15A7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030-F156-41E3-93C1-1E3FA8FD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EC79-77A3-4A73-9751-89090423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2B03-6D79-43A5-BAD8-E8316842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73ED-7FA5-400A-8393-A98FDC3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FEAB-9744-4085-B960-40DFFE1F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7CE8-A267-4840-B56C-001FF4D1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CA5-F497-4F29-A023-812BB35B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1ED-79E5-4A2F-8509-108E52C8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1DB-BA1F-4902-9865-9CB69715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F271-A8AA-4319-B36A-1573243C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D6EC-C50B-4D19-8D92-82EB9A76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8735-558F-4DD8-ABBD-563292D1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878-37E6-4E37-9925-229F10B5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C357-6D74-4343-9BB6-17EAE95E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7DAD3-4F62-45FC-A31A-EEB947C5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267A-8468-4BF8-B148-7C8AD41D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78FF-CC6F-40A9-8012-F31D9952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B8BD-C691-4F0A-80CA-E7A8A9D3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7DF4-C855-48B3-8879-15A9E76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7EF-441B-47DC-A159-078B83A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BEB5-83FB-42E0-B101-6AA48AB5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0113-8B5B-4183-AC22-E3742B71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71B0-7CBB-4764-88D2-78AF2F07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942B-F983-4F66-B226-B740002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53491-1829-46AE-832C-7307C1EA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67FD-5800-4217-A6AB-80430A61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6C169-C248-479B-B4C0-9F1FAD5F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3355-FFE8-4367-B142-14DBDD98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6299-DD0C-4BF6-A835-ECDC8124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909E5-B1D3-4000-8B39-F15FF387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6BD-6495-4052-B5B2-1873165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8B0A-91D0-4D43-BC78-0E21A2E2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4CAC0-66D4-4E3E-B5FC-B865F512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977F-5593-40A0-9FAE-93DC116B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2AC2-7FCA-4455-B5BF-B86902C4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E316-F3B4-483B-81F1-FBEF0F1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8F2A5-73DE-4301-8B4F-B23E78B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48562-A821-4E01-A8C2-F282E8DB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1EBD0-9026-425A-8B13-6D75832A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431A-1C19-41F9-B197-4C9A4C17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1476-89CE-45A9-89F8-F7130663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1EA-28EC-4BFD-9D76-26A93E13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B12CB-A6FA-40C0-A5E4-D9EA35E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AFAB7-59E5-4E8C-9B4C-079A424D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2E17-6FE2-4D2D-AD6D-90C92EF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DE20A-92C8-4BDB-A9D4-637ED427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ECCE-A972-4B1E-A2D9-5793FA6B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D9908-98B1-406A-90F1-69CD44BA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EA660-B743-4BAA-B38D-34748BF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AE135-4BA1-423E-8D2C-09B2216D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5A98-BC41-46A1-9FA8-626753B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C5F16-DEB5-4216-9C9B-C5DDE914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71F-59E8-498F-8496-F8B63F8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C7E9-CBA3-45BD-9E01-51C25C8F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EA4-EC29-4224-8CAF-AAED8FC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783-1D70-4F06-B0C2-7D95E091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768-9326-4A4F-8439-C1D382E4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B4C-916D-4624-9839-F7EC42BF05B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F2F5-D9A8-48A1-A093-AC4788F0D7A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896F-EAB6-4181-957F-784C9AA1093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9E6-BCE0-447F-94BD-F04DD809C9A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6FE3-8735-4BDB-8956-7676ADB8636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Interstate Relatio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ection Summa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do States make interstate compact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urpose of the Full Faith and Credit Clau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xtradi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nd what is its purpo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urpose of the Privileges and Immunities Clau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terstate Compac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30280"/>
            <a:ext cx="8183520" cy="4803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 the Constitution it states:  No State may enter into any treaty, alliance, or confede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ever, the States may, with the consent of Congress, enter into </a:t>
            </a:r>
            <a:r>
              <a:rPr b="1" lang="en-US" sz="2600" spc="-1" strike="noStrike">
                <a:solidFill>
                  <a:srgbClr val="b45f07"/>
                </a:solidFill>
                <a:latin typeface="Verdana"/>
              </a:rPr>
              <a:t>interstate compacts</a:t>
            </a:r>
            <a:r>
              <a:rPr b="0" lang="en-US" sz="2600" spc="-1" strike="noStrike">
                <a:solidFill>
                  <a:srgbClr val="b45f07"/>
                </a:solidFill>
                <a:latin typeface="Verdana"/>
              </a:rPr>
              <a:t>—agreements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ng themselves and with foreign st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than 200 compacts are now in force, and range in a variety of uses from sharing law-enforcement data to resource development and conservation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ull Faith and Credi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76212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1900" spc="-1" strike="noStrike">
                <a:solidFill>
                  <a:srgbClr val="b45f07"/>
                </a:solidFill>
                <a:latin typeface="Verdana"/>
              </a:rPr>
              <a:t>Full Faith and Credit Claus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of the Constitution ensures that States recognize the laws and, documents, and court proceedings of the other Stat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Examples:  Court rulings made by other states, marriage certificates, car titles, birth/death certificat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re are two exceptions to the clause though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1) One State cannot enforce another State’s criminal laws. And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(2) Full faith and credit need not be given to certain divorces granted by one State to residents of another State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case of the quickie divorce…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xtradi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45f07"/>
                </a:solidFill>
                <a:latin typeface="Verdana"/>
              </a:rPr>
              <a:t>Extradi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s the legal process by which a fugitive from justice in one State is returned to that St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dition is upheld through Article IV, Section 2, Clause 2 of the Constit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ors are the State executives that handle the extradition proc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governor is unwilling to return a fugitive to a State, federal courts can intervene and order that governor to do 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ivileges and Immuniti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575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200" spc="-1" strike="noStrike">
                <a:solidFill>
                  <a:srgbClr val="b45f07"/>
                </a:solidFill>
                <a:latin typeface="Verdana"/>
              </a:rPr>
              <a:t>Privileges and Immunities Clause</a:t>
            </a:r>
            <a:r>
              <a:rPr b="0" lang="en-US" sz="2200" spc="-1" strike="noStrike">
                <a:solidFill>
                  <a:srgbClr val="b45f07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 that no State can draw unreasonable distinctions between its own residents and those persons who happen to live in other St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s cannot, for example, pay lower welfare benefits to newly arrived residents than it does to its long-term residents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ae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o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1999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ever, States can draw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reasonab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tinctions between its own residents and those of other space, such as, charging a higher fee for hunting/fishing licenses or charging out-of-State residents higher tuition for State universities than in-State resid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ciprocit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nesota has ongoing </a:t>
            </a:r>
            <a:r>
              <a:rPr b="0" lang="en-US" sz="2800" spc="-1" strike="noStrike">
                <a:solidFill>
                  <a:srgbClr val="b45f07"/>
                </a:solidFill>
                <a:latin typeface="Verdana"/>
              </a:rPr>
              <a:t>reciprocit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reements with Wisconsin, North Dakota, South Dakota, one institution in Iowa, and the Canadian province of Manitoba. The agreements reduce non-resident tuition prices and eliminate non-resident admissions barriers for residents of each state who attend a public institution in the other st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2:30:44Z</dcterms:created>
  <dc:creator>hberndt</dc:creator>
  <dc:description/>
  <dc:language>en-US</dc:language>
  <cp:lastModifiedBy>hberndt</cp:lastModifiedBy>
  <dcterms:modified xsi:type="dcterms:W3CDTF">2010-02-24T19:06:20Z</dcterms:modified>
  <cp:revision>6</cp:revision>
  <dc:subject/>
  <dc:title>Interstate Relations</dc:title>
</cp:coreProperties>
</file>